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C0D028-9043-4651-9CD6-DAE426F44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5031628-880E-468D-AA29-434B0ABBF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F6423D0-9633-409D-BA89-59BC89350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C77B4B4-1126-4245-A4BA-80A582A26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82CFEE5-E4E0-450E-856E-154C38E23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F0E2C0-36D7-4D92-BB61-CC536E946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A9ECF27-446B-47EC-8F49-7FCA5D314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75C6E9C-5519-4EE2-AC6B-F13C94471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CBA752-870F-4565-8E96-05F703B20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6AAA005-ED3D-4310-A3B1-9FC03A958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9CDB4D-856F-4BCA-BA49-D56707FCD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A761CED-0822-4BDC-80B9-B7E681E88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0FFF98A-15C6-4F3E-9769-6EAA2B1EC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897CCC-463D-4F67-B86C-A3C414594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19DF0F0-F44A-4D78-8ECD-656FEF1A8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24C72C-F8B3-4BA3-AED4-1B2E039B4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B441E71-EDA9-4F50-B8DC-32E19C56E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01ADB0-9FE9-4E79-92CE-096CCC5F0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8EAD6C5-DC62-4E9F-BF8E-9BC8D4185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595-39AA-4A4A-9F0F-90B1088D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BD9-13B9-42AA-81CA-C0D9ED52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B76-0265-4CDE-BF54-F3E8CBD6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555-9FCB-486F-BA75-99FA9A3C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31C-56E9-442E-9CED-47284AC6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5FA1-4E0E-42F4-9DD3-FFCCFB16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3CE-E6E5-4BD7-83A1-EC84644C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B25-14AE-46BF-8911-75DA302F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014-9606-4A09-95B9-E1E8874D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610-A1B8-4891-9906-97A956A9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EF2-D282-4E52-BEC0-7F072502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0B8-D74B-41C0-99D1-44211F84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1DA6-5FAE-4190-9103-06B9DF2DE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33520" y="1219320"/>
            <a:ext cx="79246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e4c"/>
                </a:solidFill>
                <a:latin typeface="Tahoma"/>
                <a:ea typeface="SimSun"/>
              </a:rPr>
              <a:t>GDR in Drup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4c"/>
                </a:solidFill>
                <a:latin typeface="Tahoma"/>
                <a:ea typeface="SimSu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  <a:ea typeface="SimSun"/>
              </a:rPr>
              <a:t>facilitating community building and efficient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5" descr="WSU-logo.png"/>
          <p:cNvPicPr/>
          <p:nvPr/>
        </p:nvPicPr>
        <p:blipFill>
          <a:blip r:embed="rId1"/>
          <a:stretch/>
        </p:blipFill>
        <p:spPr>
          <a:xfrm>
            <a:off x="2819520" y="5010120"/>
            <a:ext cx="34812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838080" y="1522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Creating a new p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486480" cy="3336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1600200" y="2971800"/>
            <a:ext cx="6276960" cy="3413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304920" y="228600"/>
            <a:ext cx="8534160" cy="6477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838080" y="1522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User Manag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552600" y="1152360"/>
            <a:ext cx="7524720" cy="3787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1943280" y="2660760"/>
            <a:ext cx="6514920" cy="3584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304920" y="228600"/>
            <a:ext cx="8534160" cy="6477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1430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Genomics Dat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3520" y="144792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gene for family Rosaceae and for genus of malus, prunus, fragaria, pyrus and rosa 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EST annotation includes unigene set, homology, SSRs, ORF, SNPs, unique oligo sets for unigene micro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CBI/Swiss-Prot/TremBL Rosaceae protein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295280" y="5638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838080" y="44197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ing Soon – Whole Genome Sequence of Peach, Strawberry and Appl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981080" y="533520"/>
            <a:ext cx="373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Genetics Dat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09480" y="13716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us (marker loci and MT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1400 locus data available from marker/trait search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s and Genetic Diversit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9 Rosaceae genetic maps in C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sm/diversity search si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tically anchored peach physical and transcriptome 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bridization data between probes (ESTs and genetic markers) and peach BA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evant to Rosaceae genetics and genom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GDRonlylogo.png"/>
          <p:cNvPicPr/>
          <p:nvPr/>
        </p:nvPicPr>
        <p:blipFill>
          <a:blip r:embed="rId1"/>
          <a:stretch/>
        </p:blipFill>
        <p:spPr>
          <a:xfrm>
            <a:off x="7391520" y="5715000"/>
            <a:ext cx="12189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533520" y="228600"/>
            <a:ext cx="5867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Access the data from</a:t>
            </a:r>
            <a:r>
              <a:rPr b="1" lang="en-US" sz="40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2057400" y="23623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3581280" y="2362320"/>
            <a:ext cx="2210040" cy="838080"/>
          </a:xfrm>
          <a:prstGeom prst="line">
            <a:avLst/>
          </a:prstGeom>
          <a:ln w="28440">
            <a:solidFill>
              <a:srgbClr val="0e20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685800" y="25146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species page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5867280" y="297180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projects page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4419720" y="30481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or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13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53600" cy="434880"/>
          </a:xfrm>
          <a:prstGeom prst="rect">
            <a:avLst/>
          </a:prstGeom>
          <a:ln w="0">
            <a:noFill/>
          </a:ln>
        </p:spPr>
      </p:pic>
      <p:sp>
        <p:nvSpPr>
          <p:cNvPr id="132" name="Oval 13"/>
          <p:cNvSpPr/>
          <p:nvPr/>
        </p:nvSpPr>
        <p:spPr>
          <a:xfrm>
            <a:off x="1752480" y="1676520"/>
            <a:ext cx="9144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2590920" y="1676520"/>
            <a:ext cx="838080" cy="6858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15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1876680" cy="1504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6" descr=""/>
          <p:cNvPicPr/>
          <p:nvPr/>
        </p:nvPicPr>
        <p:blipFill>
          <a:blip r:embed="rId3"/>
          <a:stretch/>
        </p:blipFill>
        <p:spPr>
          <a:xfrm>
            <a:off x="2666880" y="3809880"/>
            <a:ext cx="1895760" cy="962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"/>
          <p:cNvPicPr/>
          <p:nvPr/>
        </p:nvPicPr>
        <p:blipFill>
          <a:blip r:embed="rId4"/>
          <a:stretch/>
        </p:blipFill>
        <p:spPr>
          <a:xfrm>
            <a:off x="6019920" y="3733920"/>
            <a:ext cx="1885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962520" y="304920"/>
            <a:ext cx="4495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Or go directly t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7"/>
          <p:cNvSpPr/>
          <p:nvPr/>
        </p:nvSpPr>
        <p:spPr>
          <a:xfrm flipH="1">
            <a:off x="1676520" y="1828800"/>
            <a:ext cx="2133360" cy="7621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8"/>
          <p:cNvSpPr/>
          <p:nvPr/>
        </p:nvSpPr>
        <p:spPr>
          <a:xfrm flipH="1">
            <a:off x="3809880" y="1828800"/>
            <a:ext cx="609840" cy="10666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57200" y="228600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maps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2819520" y="28954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14" descr=""/>
          <p:cNvPicPr/>
          <p:nvPr/>
        </p:nvPicPr>
        <p:blipFill>
          <a:blip r:embed="rId1"/>
          <a:stretch/>
        </p:blipFill>
        <p:spPr>
          <a:xfrm>
            <a:off x="7543800" y="6095880"/>
            <a:ext cx="1324080" cy="552600"/>
          </a:xfrm>
          <a:prstGeom prst="rect">
            <a:avLst/>
          </a:prstGeom>
          <a:ln w="0">
            <a:noFill/>
          </a:ln>
        </p:spPr>
      </p:pic>
      <p:sp>
        <p:nvSpPr>
          <p:cNvPr id="143" name="Line 22"/>
          <p:cNvSpPr/>
          <p:nvPr/>
        </p:nvSpPr>
        <p:spPr>
          <a:xfrm>
            <a:off x="5181480" y="1752480"/>
            <a:ext cx="685800" cy="6858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5715000" y="23623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Tools </a:t>
            </a:r>
            <a:br>
              <a:rPr sz="2400"/>
            </a:b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to blast against</a:t>
            </a:r>
            <a:br>
              <a:rPr sz="2400"/>
            </a:b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or down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2"/>
          <a:stretch/>
        </p:blipFill>
        <p:spPr>
          <a:xfrm>
            <a:off x="299880" y="2886120"/>
            <a:ext cx="2105280" cy="115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3"/>
          <a:stretch/>
        </p:blipFill>
        <p:spPr>
          <a:xfrm>
            <a:off x="2749680" y="3448080"/>
            <a:ext cx="2158920" cy="196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"/>
          <p:cNvPicPr/>
          <p:nvPr/>
        </p:nvPicPr>
        <p:blipFill>
          <a:blip r:embed="rId4"/>
          <a:stretch/>
        </p:blipFill>
        <p:spPr>
          <a:xfrm>
            <a:off x="5791320" y="3581280"/>
            <a:ext cx="2093760" cy="1943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/>
          <p:cNvPicPr/>
          <p:nvPr/>
        </p:nvPicPr>
        <p:blipFill>
          <a:blip r:embed="rId5"/>
          <a:stretch/>
        </p:blipFill>
        <p:spPr>
          <a:xfrm>
            <a:off x="304920" y="1295280"/>
            <a:ext cx="855324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62520" y="304920"/>
            <a:ext cx="3733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0000"/>
                </a:solidFill>
                <a:latin typeface="Tahoma"/>
              </a:rPr>
              <a:t>Map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7543800" y="5867280"/>
            <a:ext cx="1324080" cy="552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553600" cy="434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3"/>
          <a:stretch/>
        </p:blipFill>
        <p:spPr>
          <a:xfrm>
            <a:off x="3429000" y="1828800"/>
            <a:ext cx="2103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533520" y="304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4c"/>
                </a:solidFill>
                <a:latin typeface="Tahoma"/>
              </a:rPr>
              <a:t>CMap (comparative map view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654680" cy="533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85800" y="533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4c"/>
                </a:solidFill>
                <a:latin typeface="Tahoma"/>
              </a:rPr>
              <a:t>Genetic, Physical, and Transcriptome M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5813640" cy="543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9" descr=""/>
          <p:cNvPicPr/>
          <p:nvPr/>
        </p:nvPicPr>
        <p:blipFill>
          <a:blip r:embed="rId2"/>
          <a:stretch/>
        </p:blipFill>
        <p:spPr>
          <a:xfrm>
            <a:off x="2743200" y="3657600"/>
            <a:ext cx="4476600" cy="297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Picture 11" descr=""/>
          <p:cNvPicPr/>
          <p:nvPr/>
        </p:nvPicPr>
        <p:blipFill>
          <a:blip r:embed="rId3"/>
          <a:stretch/>
        </p:blipFill>
        <p:spPr>
          <a:xfrm>
            <a:off x="4664160" y="3505320"/>
            <a:ext cx="447984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3581280" y="609480"/>
            <a:ext cx="4191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search eng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1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323720" cy="552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2093760" cy="1943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855324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609480" y="5335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e4c"/>
                </a:solidFill>
                <a:latin typeface="Tahoma"/>
              </a:rPr>
              <a:t>GDR (Genome Database for Rosacea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457200" y="1905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ngsuhChe"/>
              </a:rPr>
              <a:t>a web-based community database of Rosaceae genetics and genomics data and analysis tools facilitating utilization of the data among member spe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2682720" cy="2743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2734920" y="5334120"/>
            <a:ext cx="32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ww.rosacea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0" y="304920"/>
            <a:ext cx="9201240" cy="5705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6324480" cy="39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8" descr=""/>
          <p:cNvPicPr/>
          <p:nvPr/>
        </p:nvPicPr>
        <p:blipFill>
          <a:blip r:embed="rId3"/>
          <a:stretch/>
        </p:blipFill>
        <p:spPr>
          <a:xfrm>
            <a:off x="3876840" y="1219320"/>
            <a:ext cx="526716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87480" y="228600"/>
            <a:ext cx="905652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7" name="Group 13"/>
          <p:cNvGrpSpPr/>
          <p:nvPr/>
        </p:nvGrpSpPr>
        <p:grpSpPr>
          <a:xfrm>
            <a:off x="2971800" y="685800"/>
            <a:ext cx="5790960" cy="5625720"/>
            <a:chOff x="2971800" y="685800"/>
            <a:chExt cx="5790960" cy="5625720"/>
          </a:xfrm>
        </p:grpSpPr>
        <p:pic>
          <p:nvPicPr>
            <p:cNvPr id="168" name="Picture 11" descr=""/>
            <p:cNvPicPr/>
            <p:nvPr/>
          </p:nvPicPr>
          <p:blipFill>
            <a:blip r:embed="rId2"/>
            <a:stretch/>
          </p:blipFill>
          <p:spPr>
            <a:xfrm>
              <a:off x="2971800" y="685800"/>
              <a:ext cx="5790960" cy="305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2" descr=""/>
            <p:cNvPicPr/>
            <p:nvPr/>
          </p:nvPicPr>
          <p:blipFill>
            <a:blip r:embed="rId3"/>
            <a:stretch/>
          </p:blipFill>
          <p:spPr>
            <a:xfrm>
              <a:off x="3049920" y="3742920"/>
              <a:ext cx="5529960" cy="256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Picture 7" descr=""/>
          <p:cNvPicPr/>
          <p:nvPr/>
        </p:nvPicPr>
        <p:blipFill>
          <a:blip r:embed="rId4"/>
          <a:stretch/>
        </p:blipFill>
        <p:spPr>
          <a:xfrm>
            <a:off x="2209680" y="2895480"/>
            <a:ext cx="4543560" cy="16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9182160" cy="4229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465120" y="380880"/>
            <a:ext cx="867888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272880" y="452520"/>
            <a:ext cx="8599680" cy="595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Picture 7" descr=""/>
          <p:cNvPicPr/>
          <p:nvPr/>
        </p:nvPicPr>
        <p:blipFill>
          <a:blip r:embed="rId2"/>
          <a:stretch/>
        </p:blipFill>
        <p:spPr>
          <a:xfrm>
            <a:off x="2030400" y="3857760"/>
            <a:ext cx="711360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104240" cy="24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6" name="Picture 10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7104240" cy="43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7" name="Picture 11" descr=""/>
          <p:cNvPicPr/>
          <p:nvPr/>
        </p:nvPicPr>
        <p:blipFill>
          <a:blip r:embed="rId3"/>
          <a:stretch/>
        </p:blipFill>
        <p:spPr>
          <a:xfrm>
            <a:off x="4038480" y="3733920"/>
            <a:ext cx="4934160" cy="284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  <a:ea typeface="굴림"/>
              </a:rPr>
              <a:t>Rosaceae Community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467480" y="5791320"/>
            <a:ext cx="1324080" cy="552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8553240" cy="435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20908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DR Team – Dorrie Main, Sook Jung, Meg Staton, Randall Svancara, Taein Lee, Ping Zheng, Albert Abb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members: Anna Blenda, Stephen Ficklin, Christopher Jesudu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saceae Commun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F Plant Genom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DA Specialty Crop Research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520" y="6854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25146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isit us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t Database B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nday 8-8:3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day 10-10:30 am, 4-4:3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er C9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day 10 -11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80880" y="1600200"/>
            <a:ext cx="8077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R Ne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Major objectives for the next grant peri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structure using Chado/Drupal (Dem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ata/tools currently available from GD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access the data and tools (Dem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09480" y="1468440"/>
            <a:ext cx="7696440" cy="76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DR receives funding from Sept 2009 to Aug 2013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he USDA Specialty Crop Research Initiative program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Tree fruit Genome Database Resources (tfGDR) will expand GDR to include Citrus. 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le genome sequence of peach in GBrowse (will go public in Apr 1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 and strawberry data to fo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GDR is implemented in Drup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site developed for RosBre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171880" y="609480"/>
            <a:ext cx="49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GDR New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762120" y="6541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Major goals for the next 4 yea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380880"/>
            <a:ext cx="8382240" cy="60962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57200" y="1981080"/>
            <a:ext cx="815328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integrat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ole genome sequen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large-scale phenotyping/genotyping data, and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breeding dat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he current GDR dat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To develop an infrastructure using chado and drupal (tripal) that is easy to develop, implement and mainta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affirm.net.au/images/puzzle-5-piece-small.jpg"/>
          <p:cNvPicPr/>
          <p:nvPr/>
        </p:nvPicPr>
        <p:blipFill>
          <a:blip r:embed="rId1"/>
          <a:stretch/>
        </p:blipFill>
        <p:spPr>
          <a:xfrm>
            <a:off x="457200" y="1063800"/>
            <a:ext cx="8086680" cy="5433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609480" y="1219320"/>
            <a:ext cx="2362320" cy="2361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657600" y="1447920"/>
            <a:ext cx="1676520" cy="60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352680" y="2819520"/>
            <a:ext cx="221004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962520" y="2057400"/>
            <a:ext cx="10666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4876920" y="4648320"/>
            <a:ext cx="3504960" cy="1600200"/>
          </a:xfrm>
          <a:prstGeom prst="rect">
            <a:avLst/>
          </a:prstGeom>
          <a:solidFill>
            <a:srgbClr val="0046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6172200" y="1600200"/>
            <a:ext cx="2133720" cy="1523880"/>
          </a:xfrm>
          <a:prstGeom prst="rect">
            <a:avLst/>
          </a:prstGeom>
          <a:solidFill>
            <a:srgbClr val="bf43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304920" y="1219320"/>
            <a:ext cx="28191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ahoma"/>
              </a:rPr>
              <a:t>GENOM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ucleotide sequen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ESTs, Unige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WG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hysical ma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ranscriptome ma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Pathw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6019920" y="1905120"/>
            <a:ext cx="22096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Tahoma"/>
              </a:rPr>
              <a:t>GERM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Cultiv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Pedigre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5334120" y="50292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Tahoma"/>
              </a:rPr>
              <a:t>BREE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Tahoma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3352680" y="1447920"/>
            <a:ext cx="221004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Functional 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eq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lle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Phenotyp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Geno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versity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371600" y="2286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Data to be integrated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Group 21"/>
          <p:cNvGrpSpPr/>
          <p:nvPr/>
        </p:nvGrpSpPr>
        <p:grpSpPr>
          <a:xfrm>
            <a:off x="533520" y="4572000"/>
            <a:ext cx="3581280" cy="1752480"/>
            <a:chOff x="533520" y="4572000"/>
            <a:chExt cx="3581280" cy="1752480"/>
          </a:xfrm>
        </p:grpSpPr>
        <p:sp>
          <p:nvSpPr>
            <p:cNvPr id="78" name="Rectangle 4"/>
            <p:cNvSpPr/>
            <p:nvPr/>
          </p:nvSpPr>
          <p:spPr>
            <a:xfrm>
              <a:off x="533520" y="4572000"/>
              <a:ext cx="3276720" cy="17524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3048120" y="5943600"/>
              <a:ext cx="1066680" cy="3808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" name="TextBox 12"/>
          <p:cNvSpPr/>
          <p:nvPr/>
        </p:nvSpPr>
        <p:spPr>
          <a:xfrm>
            <a:off x="533520" y="4724280"/>
            <a:ext cx="327636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ahoma"/>
              </a:rPr>
              <a:t>GENE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ocu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Gene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/MTL/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QT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rker Lo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netic Ma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9360">
            <a:solidFill>
              <a:srgbClr val="036d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914400" y="457200"/>
            <a:ext cx="76071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Plan for Building an Efficient Data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" name="Group 13"/>
          <p:cNvGrpSpPr/>
          <p:nvPr/>
        </p:nvGrpSpPr>
        <p:grpSpPr>
          <a:xfrm>
            <a:off x="1371600" y="5029200"/>
            <a:ext cx="6535800" cy="1139760"/>
            <a:chOff x="1371600" y="5029200"/>
            <a:chExt cx="6535800" cy="1139760"/>
          </a:xfrm>
        </p:grpSpPr>
        <p:sp>
          <p:nvSpPr>
            <p:cNvPr id="84" name="Rectangle 104"/>
            <p:cNvSpPr/>
            <p:nvPr/>
          </p:nvSpPr>
          <p:spPr>
            <a:xfrm>
              <a:off x="1371600" y="5715000"/>
              <a:ext cx="6535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ic Database schem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AutoShape 105"/>
            <p:cNvSpPr/>
            <p:nvPr/>
          </p:nvSpPr>
          <p:spPr>
            <a:xfrm>
              <a:off x="3962520" y="5029200"/>
              <a:ext cx="12952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ahoma"/>
                </a:rPr>
                <a:t>Chad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" name="Group 17"/>
          <p:cNvGrpSpPr/>
          <p:nvPr/>
        </p:nvGrpSpPr>
        <p:grpSpPr>
          <a:xfrm>
            <a:off x="1295280" y="1828800"/>
            <a:ext cx="6732720" cy="1252080"/>
            <a:chOff x="1295280" y="1828800"/>
            <a:chExt cx="6732720" cy="1252080"/>
          </a:xfrm>
        </p:grpSpPr>
        <p:sp>
          <p:nvSpPr>
            <p:cNvPr id="87" name="Text Box 108"/>
            <p:cNvSpPr/>
            <p:nvPr/>
          </p:nvSpPr>
          <p:spPr>
            <a:xfrm>
              <a:off x="1295280" y="2438280"/>
              <a:ext cx="673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tent Management Syste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88" name="Picture 117" descr="drupal-logo"/>
            <p:cNvPicPr/>
            <p:nvPr/>
          </p:nvPicPr>
          <p:blipFill>
            <a:blip r:embed="rId1"/>
            <a:stretch/>
          </p:blipFill>
          <p:spPr>
            <a:xfrm>
              <a:off x="3886200" y="1828800"/>
              <a:ext cx="1353960" cy="37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22"/>
          <p:cNvGrpSpPr/>
          <p:nvPr/>
        </p:nvGrpSpPr>
        <p:grpSpPr>
          <a:xfrm>
            <a:off x="1371600" y="3048120"/>
            <a:ext cx="6993000" cy="1914120"/>
            <a:chOff x="1371600" y="3048120"/>
            <a:chExt cx="6993000" cy="1914120"/>
          </a:xfrm>
        </p:grpSpPr>
        <p:grpSp>
          <p:nvGrpSpPr>
            <p:cNvPr id="90" name="Group 19"/>
            <p:cNvGrpSpPr/>
            <p:nvPr/>
          </p:nvGrpSpPr>
          <p:grpSpPr>
            <a:xfrm>
              <a:off x="1371600" y="3505320"/>
              <a:ext cx="6993000" cy="1456920"/>
              <a:chOff x="1371600" y="3505320"/>
              <a:chExt cx="6993000" cy="1456920"/>
            </a:xfrm>
          </p:grpSpPr>
          <p:grpSp>
            <p:nvGrpSpPr>
              <p:cNvPr id="91" name="Group 15"/>
              <p:cNvGrpSpPr/>
              <p:nvPr/>
            </p:nvGrpSpPr>
            <p:grpSpPr>
              <a:xfrm>
                <a:off x="1371600" y="3505320"/>
                <a:ext cx="6993000" cy="978120"/>
                <a:chOff x="1371600" y="3505320"/>
                <a:chExt cx="6993000" cy="978120"/>
              </a:xfrm>
            </p:grpSpPr>
            <p:pic>
              <p:nvPicPr>
                <p:cNvPr id="92" name="Picture 106" descr="200px-TripalLogo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09880" y="3505320"/>
                  <a:ext cx="1363680" cy="60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Text Box 112"/>
                <p:cNvSpPr/>
                <p:nvPr/>
              </p:nvSpPr>
              <p:spPr>
                <a:xfrm>
                  <a:off x="1371600" y="4115160"/>
                  <a:ext cx="699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rupal modules as web front-end for Chado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4" name="Line 118"/>
              <p:cNvSpPr/>
              <p:nvPr/>
            </p:nvSpPr>
            <p:spPr>
              <a:xfrm flipV="1">
                <a:off x="4572000" y="4571640"/>
                <a:ext cx="0" cy="39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5" name="Line 119"/>
            <p:cNvSpPr/>
            <p:nvPr/>
          </p:nvSpPr>
          <p:spPr>
            <a:xfrm flipV="1">
              <a:off x="4495680" y="3048120"/>
              <a:ext cx="0" cy="39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" name="Group 21"/>
          <p:cNvGrpSpPr/>
          <p:nvPr/>
        </p:nvGrpSpPr>
        <p:grpSpPr>
          <a:xfrm>
            <a:off x="5943600" y="3352680"/>
            <a:ext cx="2438280" cy="885600"/>
            <a:chOff x="5943600" y="3352680"/>
            <a:chExt cx="2438280" cy="885600"/>
          </a:xfrm>
        </p:grpSpPr>
        <p:sp>
          <p:nvSpPr>
            <p:cNvPr id="97" name="Text Box 25"/>
            <p:cNvSpPr/>
            <p:nvPr/>
          </p:nvSpPr>
          <p:spPr>
            <a:xfrm>
              <a:off x="6095880" y="3504960"/>
              <a:ext cx="2133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mo by Stephen Fickli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 13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(Tue) 2:30 p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Oval Callout 30"/>
            <p:cNvSpPr/>
            <p:nvPr/>
          </p:nvSpPr>
          <p:spPr>
            <a:xfrm>
              <a:off x="5943600" y="3352680"/>
              <a:ext cx="2438280" cy="762120"/>
            </a:xfrm>
            <a:prstGeom prst="wedgeEllipseCallout">
              <a:avLst>
                <a:gd name="adj1" fmla="val -77837"/>
                <a:gd name="adj2" fmla="val 20421"/>
              </a:avLst>
            </a:prstGeom>
            <a:noFill/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990720" y="380880"/>
            <a:ext cx="7391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Advantages of using Drup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914400" y="144792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Database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y to use and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functionality for community building – forums, calendars, project pages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Open Source,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popular, robust, secure and modu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s/Roles/Acces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457200" y="380880"/>
            <a:ext cx="8381880" cy="62485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5" descr="GDRonlylogo.png"/>
          <p:cNvPicPr/>
          <p:nvPr/>
        </p:nvPicPr>
        <p:blipFill>
          <a:blip r:embed="rId1"/>
          <a:stretch/>
        </p:blipFill>
        <p:spPr>
          <a:xfrm>
            <a:off x="7467480" y="6095880"/>
            <a:ext cx="1219320" cy="4194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914400" y="3733920"/>
            <a:ext cx="8229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Users – control your own page/sit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You can create/edit pages and uploa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for meetings/conference/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for project/lab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as editors for gene, QTL, breeding data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access private data securely before pub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838080" y="1522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Editing a project p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6562800" cy="3660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7238880" cy="30290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304920" y="228600"/>
            <a:ext cx="8534160" cy="6477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8:10:13Z</dcterms:created>
  <dc:creator>Dorrie Main</dc:creator>
  <dc:description/>
  <dc:language>en-US</dc:language>
  <cp:lastModifiedBy>Sook</cp:lastModifiedBy>
  <dcterms:modified xsi:type="dcterms:W3CDTF">2010-01-26T18:10:17Z</dcterms:modified>
  <cp:revision>300</cp:revision>
  <dc:subject/>
  <dc:title>Slide 1</dc:title>
</cp:coreProperties>
</file>